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08B-5893-4EC1-BF73-FE22E2C5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174-AAA5-4747-B534-4C8F2A5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A91-443D-41E8-854C-6D9029FB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AF8-D1CA-4A88-BD17-78971E75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DB67D-4875-4226-AAA1-E66BE8E7EE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9D1F5-1BD1-4FF3-9931-F15879FFC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1BB29-2D71-453F-AE6B-DF95083D36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65031-2121-4841-8010-955562A128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18F9D-231E-40CC-B1FD-A551621AC2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EB006-5E7D-40A7-8E1B-7509B44F79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B8107-19C3-470C-9126-5EB763C3A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E40-07E7-4A02-BF49-3F23A2DE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08EB9-47B3-4979-BA75-9CE0716359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BED13-E7EC-478F-97D5-D03036B311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CF6B9-B74C-4177-A621-47F8ACD0D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E535F-301C-484E-AA63-6409E1296E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1C0C1-7A68-41E8-8752-91569A0B35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A7E-BA31-4692-AA25-71DAD32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34B-2CDD-4F62-92FF-996C777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E20-E1CD-46D3-BFA1-DFC54D36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3A8-326A-4BE2-836D-51522252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CDC-BA51-46BF-8D53-295CB40F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CD0-CD49-40BC-869D-E16B845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992-DC16-4FFF-A16C-2F908E4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97D2-504E-4151-AA4B-92659235913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912E-D53D-4A7B-9B69-AAC9F2C52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366D-A9F0-447D-8681-6D4DD37F31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5597640" y="0"/>
            <a:ext cx="2822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978200" y="3100320"/>
            <a:ext cx="69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asticity, Consumer Surplus, and Producer Sur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65560" y="0"/>
            <a:ext cx="43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8"/>
          <p:cNvGrpSpPr/>
          <p:nvPr/>
        </p:nvGrpSpPr>
        <p:grpSpPr>
          <a:xfrm>
            <a:off x="2798640" y="2973240"/>
            <a:ext cx="5008320" cy="3497400"/>
            <a:chOff x="2798640" y="2973240"/>
            <a:chExt cx="5008320" cy="3497400"/>
          </a:xfrm>
        </p:grpSpPr>
        <p:sp>
          <p:nvSpPr>
            <p:cNvPr id="192" name="Rectangle 5"/>
            <p:cNvSpPr/>
            <p:nvPr/>
          </p:nvSpPr>
          <p:spPr>
            <a:xfrm>
              <a:off x="3190680" y="3171960"/>
              <a:ext cx="429228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279864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036960" y="6102360"/>
              <a:ext cx="38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       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7448040" y="60199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6"/>
            <p:cNvSpPr/>
            <p:nvPr/>
          </p:nvSpPr>
          <p:spPr>
            <a:xfrm>
              <a:off x="281088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864720" y="1263240"/>
            <a:ext cx="807588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 gain exceeds gold l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191040" y="4451400"/>
            <a:ext cx="892080" cy="1700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91040" y="5280120"/>
            <a:ext cx="351612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524400" y="4259160"/>
            <a:ext cx="3560760" cy="111924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000680" y="408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651360" y="4875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7043400" y="51944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4014720" y="43718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0"/>
          <p:cNvSpPr/>
          <p:nvPr/>
        </p:nvSpPr>
        <p:spPr>
          <a:xfrm>
            <a:off x="6645240" y="5202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BE4D482-1534-4EA1-80BE-E286F9B6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9"/>
          <p:cNvGrpSpPr/>
          <p:nvPr/>
        </p:nvGrpSpPr>
        <p:grpSpPr>
          <a:xfrm>
            <a:off x="3689280" y="2739960"/>
            <a:ext cx="3195360" cy="3776760"/>
            <a:chOff x="3689280" y="2739960"/>
            <a:chExt cx="3195360" cy="3776760"/>
          </a:xfrm>
        </p:grpSpPr>
        <p:sp>
          <p:nvSpPr>
            <p:cNvPr id="209" name="Rectangle 4"/>
            <p:cNvSpPr/>
            <p:nvPr/>
          </p:nvSpPr>
          <p:spPr>
            <a:xfrm>
              <a:off x="4103640" y="2927520"/>
              <a:ext cx="2538000" cy="326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709440" y="2906640"/>
              <a:ext cx="40644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3949560" y="6148440"/>
              <a:ext cx="27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6525720" y="6108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3689280" y="2739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861840" y="1212480"/>
            <a:ext cx="828216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er price and 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ld loss exceeds blue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03640" y="3191040"/>
            <a:ext cx="881280" cy="30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103640" y="5432400"/>
            <a:ext cx="1762200" cy="763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4929120" y="3011400"/>
            <a:ext cx="1143000" cy="293688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75560" y="291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862600" y="5119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054120" y="5749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4915080" y="311616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5800680" y="536904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936063E-0D3A-4ECD-AF5E-AB73440BC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9"/>
          <p:cNvGrpSpPr/>
          <p:nvPr/>
        </p:nvGrpSpPr>
        <p:grpSpPr>
          <a:xfrm>
            <a:off x="3398760" y="2973240"/>
            <a:ext cx="3808440" cy="3497400"/>
            <a:chOff x="3398760" y="2973240"/>
            <a:chExt cx="3808440" cy="3497400"/>
          </a:xfrm>
        </p:grpSpPr>
        <p:sp>
          <p:nvSpPr>
            <p:cNvPr id="226" name="Rectangle 4"/>
            <p:cNvSpPr/>
            <p:nvPr/>
          </p:nvSpPr>
          <p:spPr>
            <a:xfrm>
              <a:off x="3790800" y="3171960"/>
              <a:ext cx="3216600" cy="297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5"/>
            <p:cNvSpPr/>
            <p:nvPr/>
          </p:nvSpPr>
          <p:spPr>
            <a:xfrm>
              <a:off x="3398760" y="3267000"/>
              <a:ext cx="4064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3638520" y="6102360"/>
              <a:ext cx="317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       10          20          30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6848280" y="6064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411720" y="2973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830160" y="1225440"/>
            <a:ext cx="8313840" cy="12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wer price and unit-elastic dem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ue gain equals yellow lo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90800" y="3603600"/>
            <a:ext cx="892440" cy="254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790800" y="5280120"/>
            <a:ext cx="2635560" cy="871560"/>
          </a:xfrm>
          <a:prstGeom prst="rect">
            <a:avLst/>
          </a:prstGeom>
          <a:solidFill>
            <a:srgbClr val="2d2d8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67400" y="330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384960" y="48751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656040" y="51800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5"/>
          <p:cNvSpPr/>
          <p:nvPr/>
        </p:nvSpPr>
        <p:spPr>
          <a:xfrm rot="10800000">
            <a:off x="4670280" y="3387240"/>
            <a:ext cx="2006640" cy="187812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878120"/>
              <a:gd name="textAreaBottom" fmla="*/ 1878480 h 1878120"/>
            </a:gdLst>
            <a:ahLst/>
            <a:rect l="textAreaLeft" t="textAreaTop" r="textAreaRight" b="textAreaBottom"/>
            <a:pathLst>
              <a:path fill="none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</a:path>
              <a:path stroke="0" w="22457" h="21600">
                <a:moveTo>
                  <a:pt x="0" y="17"/>
                </a:moveTo>
                <a:cubicBezTo>
                  <a:pt x="285" y="5"/>
                  <a:pt x="571" y="-1"/>
                  <a:pt x="857" y="0"/>
                </a:cubicBezTo>
                <a:cubicBezTo>
                  <a:pt x="12786" y="0"/>
                  <a:pt x="22457" y="9670"/>
                  <a:pt x="22457" y="21600"/>
                </a:cubicBezTo>
                <a:lnTo>
                  <a:pt x="857" y="21600"/>
                </a:lnTo>
                <a:close/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4614840" y="353844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8"/>
          <p:cNvSpPr/>
          <p:nvPr/>
        </p:nvSpPr>
        <p:spPr>
          <a:xfrm>
            <a:off x="6356520" y="519120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48F9896-3A04-4539-B466-43373722D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00"/>
          <p:cNvGrpSpPr/>
          <p:nvPr/>
        </p:nvGrpSpPr>
        <p:grpSpPr>
          <a:xfrm>
            <a:off x="4183200" y="3173400"/>
            <a:ext cx="957240" cy="3029400"/>
            <a:chOff x="4183200" y="3173400"/>
            <a:chExt cx="957240" cy="3029400"/>
          </a:xfrm>
        </p:grpSpPr>
        <p:grpSp>
          <p:nvGrpSpPr>
            <p:cNvPr id="243" name="Group 31"/>
            <p:cNvGrpSpPr/>
            <p:nvPr/>
          </p:nvGrpSpPr>
          <p:grpSpPr>
            <a:xfrm>
              <a:off x="4183200" y="3173400"/>
              <a:ext cx="957240" cy="581400"/>
              <a:chOff x="4183200" y="3173400"/>
              <a:chExt cx="957240" cy="581400"/>
            </a:xfrm>
          </p:grpSpPr>
          <p:sp>
            <p:nvSpPr>
              <p:cNvPr id="244" name="Text Box 23"/>
              <p:cNvSpPr/>
              <p:nvPr/>
            </p:nvSpPr>
            <p:spPr>
              <a:xfrm>
                <a:off x="4183200" y="3173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4354560" y="349740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32"/>
            <p:cNvGrpSpPr/>
            <p:nvPr/>
          </p:nvGrpSpPr>
          <p:grpSpPr>
            <a:xfrm>
              <a:off x="4183200" y="3581280"/>
              <a:ext cx="957240" cy="581400"/>
              <a:chOff x="4183200" y="3581280"/>
              <a:chExt cx="957240" cy="581400"/>
            </a:xfrm>
          </p:grpSpPr>
          <p:sp>
            <p:nvSpPr>
              <p:cNvPr id="247" name="Text Box 33"/>
              <p:cNvSpPr/>
              <p:nvPr/>
            </p:nvSpPr>
            <p:spPr>
              <a:xfrm>
                <a:off x="4183200" y="3581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4354560" y="3905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5"/>
            <p:cNvGrpSpPr/>
            <p:nvPr/>
          </p:nvGrpSpPr>
          <p:grpSpPr>
            <a:xfrm>
              <a:off x="4183200" y="3989520"/>
              <a:ext cx="957240" cy="581400"/>
              <a:chOff x="4183200" y="3989520"/>
              <a:chExt cx="957240" cy="581400"/>
            </a:xfrm>
          </p:grpSpPr>
          <p:sp>
            <p:nvSpPr>
              <p:cNvPr id="250" name="Text Box 36"/>
              <p:cNvSpPr/>
              <p:nvPr/>
            </p:nvSpPr>
            <p:spPr>
              <a:xfrm>
                <a:off x="4183200" y="39895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4354560" y="4313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4183200" y="4397400"/>
              <a:ext cx="957240" cy="581400"/>
              <a:chOff x="4183200" y="4397400"/>
              <a:chExt cx="957240" cy="581400"/>
            </a:xfrm>
          </p:grpSpPr>
          <p:sp>
            <p:nvSpPr>
              <p:cNvPr id="253" name="Text Box 39"/>
              <p:cNvSpPr/>
              <p:nvPr/>
            </p:nvSpPr>
            <p:spPr>
              <a:xfrm>
                <a:off x="4183200" y="4397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4354560" y="4721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1"/>
            <p:cNvGrpSpPr/>
            <p:nvPr/>
          </p:nvGrpSpPr>
          <p:grpSpPr>
            <a:xfrm>
              <a:off x="4183200" y="4805280"/>
              <a:ext cx="957240" cy="581400"/>
              <a:chOff x="4183200" y="4805280"/>
              <a:chExt cx="957240" cy="581400"/>
            </a:xfrm>
          </p:grpSpPr>
          <p:sp>
            <p:nvSpPr>
              <p:cNvPr id="256" name="Text Box 42"/>
              <p:cNvSpPr/>
              <p:nvPr/>
            </p:nvSpPr>
            <p:spPr>
              <a:xfrm>
                <a:off x="4183200" y="48052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43"/>
              <p:cNvSpPr/>
              <p:nvPr/>
            </p:nvSpPr>
            <p:spPr>
              <a:xfrm>
                <a:off x="4354560" y="5129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44"/>
            <p:cNvGrpSpPr/>
            <p:nvPr/>
          </p:nvGrpSpPr>
          <p:grpSpPr>
            <a:xfrm>
              <a:off x="4183200" y="5213160"/>
              <a:ext cx="957240" cy="581400"/>
              <a:chOff x="4183200" y="5213160"/>
              <a:chExt cx="957240" cy="581400"/>
            </a:xfrm>
          </p:grpSpPr>
          <p:sp>
            <p:nvSpPr>
              <p:cNvPr id="259" name="Text Box 45"/>
              <p:cNvSpPr/>
              <p:nvPr/>
            </p:nvSpPr>
            <p:spPr>
              <a:xfrm>
                <a:off x="418320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46"/>
              <p:cNvSpPr/>
              <p:nvPr/>
            </p:nvSpPr>
            <p:spPr>
              <a:xfrm>
                <a:off x="4354560" y="55371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47"/>
            <p:cNvGrpSpPr/>
            <p:nvPr/>
          </p:nvGrpSpPr>
          <p:grpSpPr>
            <a:xfrm>
              <a:off x="4183200" y="5621400"/>
              <a:ext cx="957240" cy="581400"/>
              <a:chOff x="4183200" y="5621400"/>
              <a:chExt cx="957240" cy="581400"/>
            </a:xfrm>
          </p:grpSpPr>
          <p:sp>
            <p:nvSpPr>
              <p:cNvPr id="262" name="Text Box 48"/>
              <p:cNvSpPr/>
              <p:nvPr/>
            </p:nvSpPr>
            <p:spPr>
              <a:xfrm>
                <a:off x="4183200" y="562140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49"/>
              <p:cNvSpPr/>
              <p:nvPr/>
            </p:nvSpPr>
            <p:spPr>
              <a:xfrm>
                <a:off x="4354560" y="594504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22"/>
          <p:cNvGrpSpPr/>
          <p:nvPr/>
        </p:nvGrpSpPr>
        <p:grpSpPr>
          <a:xfrm>
            <a:off x="1879560" y="2341440"/>
            <a:ext cx="6713280" cy="698400"/>
            <a:chOff x="1879560" y="2341440"/>
            <a:chExt cx="6713280" cy="698400"/>
          </a:xfrm>
        </p:grpSpPr>
        <p:sp>
          <p:nvSpPr>
            <p:cNvPr id="265" name="Rectangle 5"/>
            <p:cNvSpPr/>
            <p:nvPr/>
          </p:nvSpPr>
          <p:spPr>
            <a:xfrm>
              <a:off x="1879560" y="2341440"/>
              <a:ext cx="6713280" cy="698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3560760" y="2342880"/>
              <a:ext cx="3801960" cy="690840"/>
              <a:chOff x="3560760" y="2342880"/>
              <a:chExt cx="3801960" cy="690840"/>
            </a:xfrm>
          </p:grpSpPr>
          <p:sp>
            <p:nvSpPr>
              <p:cNvPr id="267" name="Line 16"/>
              <p:cNvSpPr/>
              <p:nvPr/>
            </p:nvSpPr>
            <p:spPr>
              <a:xfrm>
                <a:off x="356076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492444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6165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7362720" y="2342880"/>
                <a:ext cx="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n a Lin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529360" y="2984400"/>
            <a:ext cx="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12120" y="2984400"/>
            <a:ext cx="4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174280" y="3181320"/>
            <a:ext cx="624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6247800" y="2984400"/>
            <a:ext cx="8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349760" y="3181320"/>
            <a:ext cx="1425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1798560" y="2347920"/>
            <a:ext cx="17686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Quantit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ckets Dema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 Week, Thou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584160" y="2658960"/>
            <a:ext cx="132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er Ti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907880" y="2503440"/>
            <a:ext cx="126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efficient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6152040" y="2503440"/>
            <a:ext cx="12247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X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7345800" y="2503440"/>
            <a:ext cx="1232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-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01"/>
          <p:cNvGrpSpPr/>
          <p:nvPr/>
        </p:nvGrpSpPr>
        <p:grpSpPr>
          <a:xfrm>
            <a:off x="6973920" y="3162240"/>
            <a:ext cx="429840" cy="3051720"/>
            <a:chOff x="6973920" y="3162240"/>
            <a:chExt cx="429840" cy="3051720"/>
          </a:xfrm>
        </p:grpSpPr>
        <p:grpSp>
          <p:nvGrpSpPr>
            <p:cNvPr id="283" name="Group 53"/>
            <p:cNvGrpSpPr/>
            <p:nvPr/>
          </p:nvGrpSpPr>
          <p:grpSpPr>
            <a:xfrm>
              <a:off x="6973920" y="3162240"/>
              <a:ext cx="429840" cy="581400"/>
              <a:chOff x="6973920" y="3162240"/>
              <a:chExt cx="429840" cy="581400"/>
            </a:xfrm>
          </p:grpSpPr>
          <p:sp>
            <p:nvSpPr>
              <p:cNvPr id="284" name="Text Box 51"/>
              <p:cNvSpPr/>
              <p:nvPr/>
            </p:nvSpPr>
            <p:spPr>
              <a:xfrm>
                <a:off x="6973920" y="31622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2"/>
              <p:cNvSpPr/>
              <p:nvPr/>
            </p:nvSpPr>
            <p:spPr>
              <a:xfrm>
                <a:off x="7145280" y="348588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54"/>
            <p:cNvGrpSpPr/>
            <p:nvPr/>
          </p:nvGrpSpPr>
          <p:grpSpPr>
            <a:xfrm>
              <a:off x="6973920" y="3570120"/>
              <a:ext cx="429840" cy="581400"/>
              <a:chOff x="6973920" y="3570120"/>
              <a:chExt cx="429840" cy="581400"/>
            </a:xfrm>
          </p:grpSpPr>
          <p:sp>
            <p:nvSpPr>
              <p:cNvPr id="287" name="Text Box 55"/>
              <p:cNvSpPr/>
              <p:nvPr/>
            </p:nvSpPr>
            <p:spPr>
              <a:xfrm>
                <a:off x="6973920" y="3570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56"/>
              <p:cNvSpPr/>
              <p:nvPr/>
            </p:nvSpPr>
            <p:spPr>
              <a:xfrm>
                <a:off x="7145280" y="3893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72"/>
            <p:cNvGrpSpPr/>
            <p:nvPr/>
          </p:nvGrpSpPr>
          <p:grpSpPr>
            <a:xfrm>
              <a:off x="6973920" y="3978360"/>
              <a:ext cx="429840" cy="581400"/>
              <a:chOff x="6973920" y="3978360"/>
              <a:chExt cx="429840" cy="581400"/>
            </a:xfrm>
          </p:grpSpPr>
          <p:sp>
            <p:nvSpPr>
              <p:cNvPr id="290" name="Text Box 73"/>
              <p:cNvSpPr/>
              <p:nvPr/>
            </p:nvSpPr>
            <p:spPr>
              <a:xfrm>
                <a:off x="6973920" y="39783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74"/>
              <p:cNvSpPr/>
              <p:nvPr/>
            </p:nvSpPr>
            <p:spPr>
              <a:xfrm>
                <a:off x="7145280" y="43020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87"/>
            <p:cNvGrpSpPr/>
            <p:nvPr/>
          </p:nvGrpSpPr>
          <p:grpSpPr>
            <a:xfrm>
              <a:off x="6973920" y="4375080"/>
              <a:ext cx="429840" cy="581400"/>
              <a:chOff x="6973920" y="4375080"/>
              <a:chExt cx="429840" cy="581400"/>
            </a:xfrm>
          </p:grpSpPr>
          <p:sp>
            <p:nvSpPr>
              <p:cNvPr id="293" name="Text Box 88"/>
              <p:cNvSpPr/>
              <p:nvPr/>
            </p:nvSpPr>
            <p:spPr>
              <a:xfrm>
                <a:off x="6973920" y="437508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89"/>
              <p:cNvSpPr/>
              <p:nvPr/>
            </p:nvSpPr>
            <p:spPr>
              <a:xfrm>
                <a:off x="7145280" y="469872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90"/>
            <p:cNvGrpSpPr/>
            <p:nvPr/>
          </p:nvGrpSpPr>
          <p:grpSpPr>
            <a:xfrm>
              <a:off x="6973920" y="4794120"/>
              <a:ext cx="429840" cy="581400"/>
              <a:chOff x="6973920" y="4794120"/>
              <a:chExt cx="429840" cy="581400"/>
            </a:xfrm>
          </p:grpSpPr>
          <p:sp>
            <p:nvSpPr>
              <p:cNvPr id="296" name="Text Box 91"/>
              <p:cNvSpPr/>
              <p:nvPr/>
            </p:nvSpPr>
            <p:spPr>
              <a:xfrm>
                <a:off x="6973920" y="47941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2"/>
              <p:cNvSpPr/>
              <p:nvPr/>
            </p:nvSpPr>
            <p:spPr>
              <a:xfrm>
                <a:off x="7145280" y="511776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93"/>
            <p:cNvGrpSpPr/>
            <p:nvPr/>
          </p:nvGrpSpPr>
          <p:grpSpPr>
            <a:xfrm>
              <a:off x="6973920" y="5213160"/>
              <a:ext cx="429840" cy="581400"/>
              <a:chOff x="6973920" y="5213160"/>
              <a:chExt cx="429840" cy="581400"/>
            </a:xfrm>
          </p:grpSpPr>
          <p:sp>
            <p:nvSpPr>
              <p:cNvPr id="299" name="Text Box 94"/>
              <p:cNvSpPr/>
              <p:nvPr/>
            </p:nvSpPr>
            <p:spPr>
              <a:xfrm>
                <a:off x="6973920" y="52131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5"/>
              <p:cNvSpPr/>
              <p:nvPr/>
            </p:nvSpPr>
            <p:spPr>
              <a:xfrm>
                <a:off x="7145280" y="55368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6"/>
            <p:cNvGrpSpPr/>
            <p:nvPr/>
          </p:nvGrpSpPr>
          <p:grpSpPr>
            <a:xfrm>
              <a:off x="6973920" y="5632560"/>
              <a:ext cx="429840" cy="581400"/>
              <a:chOff x="6973920" y="5632560"/>
              <a:chExt cx="429840" cy="581400"/>
            </a:xfrm>
          </p:grpSpPr>
          <p:sp>
            <p:nvSpPr>
              <p:cNvPr id="302" name="Text Box 97"/>
              <p:cNvSpPr/>
              <p:nvPr/>
            </p:nvSpPr>
            <p:spPr>
              <a:xfrm>
                <a:off x="6973920" y="563256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8"/>
              <p:cNvSpPr/>
              <p:nvPr/>
            </p:nvSpPr>
            <p:spPr>
              <a:xfrm>
                <a:off x="7145280" y="5956200"/>
                <a:ext cx="25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Rectangle 6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D086350-08B1-48DD-8982-49E73DD0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04"/>
          <p:cNvGrpSpPr/>
          <p:nvPr/>
        </p:nvGrpSpPr>
        <p:grpSpPr>
          <a:xfrm>
            <a:off x="4251240" y="1325520"/>
            <a:ext cx="2233440" cy="4888080"/>
            <a:chOff x="4251240" y="1325520"/>
            <a:chExt cx="2233440" cy="4888080"/>
          </a:xfrm>
        </p:grpSpPr>
        <p:grpSp>
          <p:nvGrpSpPr>
            <p:cNvPr id="306" name="Group 284"/>
            <p:cNvGrpSpPr/>
            <p:nvPr/>
          </p:nvGrpSpPr>
          <p:grpSpPr>
            <a:xfrm>
              <a:off x="4267080" y="1325520"/>
              <a:ext cx="2217600" cy="2139840"/>
              <a:chOff x="4267080" y="1325520"/>
              <a:chExt cx="2217600" cy="2139840"/>
            </a:xfrm>
          </p:grpSpPr>
          <p:sp>
            <p:nvSpPr>
              <p:cNvPr id="307" name="AutoShape 278"/>
              <p:cNvSpPr/>
              <p:nvPr/>
            </p:nvSpPr>
            <p:spPr>
              <a:xfrm>
                <a:off x="4267080" y="1325520"/>
                <a:ext cx="2128680" cy="21286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81"/>
              <p:cNvSpPr/>
              <p:nvPr/>
            </p:nvSpPr>
            <p:spPr>
              <a:xfrm>
                <a:off x="5219280" y="2087640"/>
                <a:ext cx="1265400" cy="137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230"/>
            <p:cNvSpPr/>
            <p:nvPr/>
          </p:nvSpPr>
          <p:spPr>
            <a:xfrm>
              <a:off x="4251240" y="3846600"/>
              <a:ext cx="955800" cy="23670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3"/>
          <p:cNvGrpSpPr/>
          <p:nvPr/>
        </p:nvGrpSpPr>
        <p:grpSpPr>
          <a:xfrm>
            <a:off x="5191200" y="2257560"/>
            <a:ext cx="1334880" cy="3956040"/>
            <a:chOff x="5191200" y="2257560"/>
            <a:chExt cx="1334880" cy="3956040"/>
          </a:xfrm>
        </p:grpSpPr>
        <p:grpSp>
          <p:nvGrpSpPr>
            <p:cNvPr id="311" name="Group 286"/>
            <p:cNvGrpSpPr/>
            <p:nvPr/>
          </p:nvGrpSpPr>
          <p:grpSpPr>
            <a:xfrm>
              <a:off x="5218200" y="2257560"/>
              <a:ext cx="1307880" cy="1207800"/>
              <a:chOff x="5218200" y="2257560"/>
              <a:chExt cx="1307880" cy="1207800"/>
            </a:xfrm>
          </p:grpSpPr>
          <p:sp>
            <p:nvSpPr>
              <p:cNvPr id="312" name="AutoShape 279"/>
              <p:cNvSpPr/>
              <p:nvPr/>
            </p:nvSpPr>
            <p:spPr>
              <a:xfrm>
                <a:off x="5218200" y="2274840"/>
                <a:ext cx="1182600" cy="1182240"/>
              </a:xfrm>
              <a:prstGeom prst="rtTriangl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85"/>
              <p:cNvSpPr/>
              <p:nvPr/>
            </p:nvSpPr>
            <p:spPr>
              <a:xfrm>
                <a:off x="5452920" y="2257560"/>
                <a:ext cx="1073160" cy="12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Rectangle 229"/>
            <p:cNvSpPr/>
            <p:nvPr/>
          </p:nvSpPr>
          <p:spPr>
            <a:xfrm>
              <a:off x="5191200" y="3846600"/>
              <a:ext cx="257040" cy="2367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01"/>
          <p:cNvGrpSpPr/>
          <p:nvPr/>
        </p:nvGrpSpPr>
        <p:grpSpPr>
          <a:xfrm>
            <a:off x="5445000" y="2508120"/>
            <a:ext cx="1190880" cy="3705480"/>
            <a:chOff x="5445000" y="2508120"/>
            <a:chExt cx="1190880" cy="3705480"/>
          </a:xfrm>
        </p:grpSpPr>
        <p:sp>
          <p:nvSpPr>
            <p:cNvPr id="316" name="AutoShape 280"/>
            <p:cNvSpPr/>
            <p:nvPr/>
          </p:nvSpPr>
          <p:spPr>
            <a:xfrm>
              <a:off x="5459400" y="2508120"/>
              <a:ext cx="957240" cy="95724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8"/>
            <p:cNvSpPr/>
            <p:nvPr/>
          </p:nvSpPr>
          <p:spPr>
            <a:xfrm>
              <a:off x="5445000" y="3846600"/>
              <a:ext cx="1190880" cy="2367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03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the TR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09"/>
          <p:cNvGrpSpPr/>
          <p:nvPr/>
        </p:nvGrpSpPr>
        <p:grpSpPr>
          <a:xfrm>
            <a:off x="3324240" y="1087560"/>
            <a:ext cx="3324240" cy="5564880"/>
            <a:chOff x="3324240" y="1087560"/>
            <a:chExt cx="3324240" cy="5564880"/>
          </a:xfrm>
        </p:grpSpPr>
        <p:grpSp>
          <p:nvGrpSpPr>
            <p:cNvPr id="320" name="Group 305"/>
            <p:cNvGrpSpPr/>
            <p:nvPr/>
          </p:nvGrpSpPr>
          <p:grpSpPr>
            <a:xfrm>
              <a:off x="3324240" y="1087560"/>
              <a:ext cx="3321000" cy="5564880"/>
              <a:chOff x="3324240" y="1087560"/>
              <a:chExt cx="3321000" cy="5564880"/>
            </a:xfrm>
          </p:grpSpPr>
          <p:grpSp>
            <p:nvGrpSpPr>
              <p:cNvPr id="321" name="Group 191"/>
              <p:cNvGrpSpPr/>
              <p:nvPr/>
            </p:nvGrpSpPr>
            <p:grpSpPr>
              <a:xfrm>
                <a:off x="4251240" y="3841920"/>
                <a:ext cx="2386080" cy="2369520"/>
                <a:chOff x="4251240" y="3841920"/>
                <a:chExt cx="2386080" cy="2369520"/>
              </a:xfrm>
            </p:grpSpPr>
            <p:sp>
              <p:nvSpPr>
                <p:cNvPr id="322" name="Line 192"/>
                <p:cNvSpPr/>
                <p:nvPr/>
              </p:nvSpPr>
              <p:spPr>
                <a:xfrm>
                  <a:off x="4257000" y="40806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93"/>
                <p:cNvSpPr/>
                <p:nvPr/>
              </p:nvSpPr>
              <p:spPr>
                <a:xfrm>
                  <a:off x="4257000" y="384300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194"/>
                <p:cNvGrpSpPr/>
                <p:nvPr/>
              </p:nvGrpSpPr>
              <p:grpSpPr>
                <a:xfrm>
                  <a:off x="4252320" y="3852720"/>
                  <a:ext cx="2385000" cy="2358720"/>
                  <a:chOff x="4252320" y="3852720"/>
                  <a:chExt cx="2385000" cy="2358720"/>
                </a:xfrm>
              </p:grpSpPr>
              <p:sp>
                <p:nvSpPr>
                  <p:cNvPr id="325" name="Line 195"/>
                  <p:cNvSpPr/>
                  <p:nvPr/>
                </p:nvSpPr>
                <p:spPr>
                  <a:xfrm>
                    <a:off x="568296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6"/>
                  <p:cNvSpPr/>
                  <p:nvPr/>
                </p:nvSpPr>
                <p:spPr>
                  <a:xfrm>
                    <a:off x="59184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7"/>
                  <p:cNvSpPr/>
                  <p:nvPr/>
                </p:nvSpPr>
                <p:spPr>
                  <a:xfrm>
                    <a:off x="6158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198"/>
                  <p:cNvSpPr/>
                  <p:nvPr/>
                </p:nvSpPr>
                <p:spPr>
                  <a:xfrm>
                    <a:off x="4252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99"/>
                  <p:cNvSpPr/>
                  <p:nvPr/>
                </p:nvSpPr>
                <p:spPr>
                  <a:xfrm>
                    <a:off x="44935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0"/>
                  <p:cNvSpPr/>
                  <p:nvPr/>
                </p:nvSpPr>
                <p:spPr>
                  <a:xfrm>
                    <a:off x="47286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201"/>
                  <p:cNvSpPr/>
                  <p:nvPr/>
                </p:nvSpPr>
                <p:spPr>
                  <a:xfrm>
                    <a:off x="4969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202"/>
                  <p:cNvSpPr/>
                  <p:nvPr/>
                </p:nvSpPr>
                <p:spPr>
                  <a:xfrm>
                    <a:off x="520164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3"/>
                  <p:cNvSpPr/>
                  <p:nvPr/>
                </p:nvSpPr>
                <p:spPr>
                  <a:xfrm>
                    <a:off x="543708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4"/>
                  <p:cNvSpPr/>
                  <p:nvPr/>
                </p:nvSpPr>
                <p:spPr>
                  <a:xfrm>
                    <a:off x="639720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5"/>
                  <p:cNvSpPr/>
                  <p:nvPr/>
                </p:nvSpPr>
                <p:spPr>
                  <a:xfrm>
                    <a:off x="6637320" y="385272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Line 206"/>
                <p:cNvSpPr/>
                <p:nvPr/>
              </p:nvSpPr>
              <p:spPr>
                <a:xfrm>
                  <a:off x="4251240" y="47890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07"/>
                <p:cNvSpPr/>
                <p:nvPr/>
              </p:nvSpPr>
              <p:spPr>
                <a:xfrm>
                  <a:off x="4251240" y="45561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08"/>
                <p:cNvSpPr/>
                <p:nvPr/>
              </p:nvSpPr>
              <p:spPr>
                <a:xfrm>
                  <a:off x="4251240" y="43171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09"/>
                <p:cNvSpPr/>
                <p:nvPr/>
              </p:nvSpPr>
              <p:spPr>
                <a:xfrm>
                  <a:off x="4251240" y="62103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10"/>
                <p:cNvSpPr/>
                <p:nvPr/>
              </p:nvSpPr>
              <p:spPr>
                <a:xfrm>
                  <a:off x="4251240" y="5970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11"/>
                <p:cNvSpPr/>
                <p:nvPr/>
              </p:nvSpPr>
              <p:spPr>
                <a:xfrm>
                  <a:off x="4251240" y="57373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12"/>
                <p:cNvSpPr/>
                <p:nvPr/>
              </p:nvSpPr>
              <p:spPr>
                <a:xfrm>
                  <a:off x="4251240" y="54986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13"/>
                <p:cNvSpPr/>
                <p:nvPr/>
              </p:nvSpPr>
              <p:spPr>
                <a:xfrm>
                  <a:off x="4251240" y="5267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14"/>
                <p:cNvSpPr/>
                <p:nvPr/>
              </p:nvSpPr>
              <p:spPr>
                <a:xfrm>
                  <a:off x="4251240" y="5033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15"/>
                <p:cNvSpPr/>
                <p:nvPr/>
              </p:nvSpPr>
              <p:spPr>
                <a:xfrm>
                  <a:off x="4251240" y="40806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6"/>
                <p:cNvSpPr/>
                <p:nvPr/>
              </p:nvSpPr>
              <p:spPr>
                <a:xfrm>
                  <a:off x="4251240" y="38419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164"/>
              <p:cNvGrpSpPr/>
              <p:nvPr/>
            </p:nvGrpSpPr>
            <p:grpSpPr>
              <a:xfrm>
                <a:off x="4259160" y="1087560"/>
                <a:ext cx="2386080" cy="2369520"/>
                <a:chOff x="4259160" y="1087560"/>
                <a:chExt cx="2386080" cy="2369520"/>
              </a:xfrm>
            </p:grpSpPr>
            <p:sp>
              <p:nvSpPr>
                <p:cNvPr id="348" name="Line 100"/>
                <p:cNvSpPr/>
                <p:nvPr/>
              </p:nvSpPr>
              <p:spPr>
                <a:xfrm>
                  <a:off x="4264920" y="13262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01"/>
                <p:cNvSpPr/>
                <p:nvPr/>
              </p:nvSpPr>
              <p:spPr>
                <a:xfrm>
                  <a:off x="4264920" y="1088640"/>
                  <a:ext cx="189864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51"/>
                <p:cNvGrpSpPr/>
                <p:nvPr/>
              </p:nvGrpSpPr>
              <p:grpSpPr>
                <a:xfrm>
                  <a:off x="4260240" y="1098360"/>
                  <a:ext cx="2385000" cy="2358720"/>
                  <a:chOff x="4260240" y="1098360"/>
                  <a:chExt cx="2385000" cy="2358720"/>
                </a:xfrm>
              </p:grpSpPr>
              <p:sp>
                <p:nvSpPr>
                  <p:cNvPr id="351" name="Line 72"/>
                  <p:cNvSpPr/>
                  <p:nvPr/>
                </p:nvSpPr>
                <p:spPr>
                  <a:xfrm>
                    <a:off x="569088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75"/>
                  <p:cNvSpPr/>
                  <p:nvPr/>
                </p:nvSpPr>
                <p:spPr>
                  <a:xfrm>
                    <a:off x="59263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76"/>
                  <p:cNvSpPr/>
                  <p:nvPr/>
                </p:nvSpPr>
                <p:spPr>
                  <a:xfrm>
                    <a:off x="6166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81"/>
                  <p:cNvSpPr/>
                  <p:nvPr/>
                </p:nvSpPr>
                <p:spPr>
                  <a:xfrm>
                    <a:off x="4260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82"/>
                  <p:cNvSpPr/>
                  <p:nvPr/>
                </p:nvSpPr>
                <p:spPr>
                  <a:xfrm>
                    <a:off x="45014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83"/>
                  <p:cNvSpPr/>
                  <p:nvPr/>
                </p:nvSpPr>
                <p:spPr>
                  <a:xfrm>
                    <a:off x="47365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84"/>
                  <p:cNvSpPr/>
                  <p:nvPr/>
                </p:nvSpPr>
                <p:spPr>
                  <a:xfrm>
                    <a:off x="4977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85"/>
                  <p:cNvSpPr/>
                  <p:nvPr/>
                </p:nvSpPr>
                <p:spPr>
                  <a:xfrm>
                    <a:off x="520956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86"/>
                  <p:cNvSpPr/>
                  <p:nvPr/>
                </p:nvSpPr>
                <p:spPr>
                  <a:xfrm>
                    <a:off x="544500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48"/>
                  <p:cNvSpPr/>
                  <p:nvPr/>
                </p:nvSpPr>
                <p:spPr>
                  <a:xfrm>
                    <a:off x="640512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9"/>
                  <p:cNvSpPr/>
                  <p:nvPr/>
                </p:nvSpPr>
                <p:spPr>
                  <a:xfrm>
                    <a:off x="6645240" y="1098360"/>
                    <a:ext cx="0" cy="23587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Line 153"/>
                <p:cNvSpPr/>
                <p:nvPr/>
              </p:nvSpPr>
              <p:spPr>
                <a:xfrm>
                  <a:off x="4259160" y="20347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4"/>
                <p:cNvSpPr/>
                <p:nvPr/>
              </p:nvSpPr>
              <p:spPr>
                <a:xfrm>
                  <a:off x="4259160" y="18018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55"/>
                <p:cNvSpPr/>
                <p:nvPr/>
              </p:nvSpPr>
              <p:spPr>
                <a:xfrm>
                  <a:off x="4259160" y="15627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4259160" y="345600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57"/>
                <p:cNvSpPr/>
                <p:nvPr/>
              </p:nvSpPr>
              <p:spPr>
                <a:xfrm>
                  <a:off x="4259160" y="32158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58"/>
                <p:cNvSpPr/>
                <p:nvPr/>
              </p:nvSpPr>
              <p:spPr>
                <a:xfrm>
                  <a:off x="4259160" y="29829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59"/>
                <p:cNvSpPr/>
                <p:nvPr/>
              </p:nvSpPr>
              <p:spPr>
                <a:xfrm>
                  <a:off x="4259160" y="274428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60"/>
                <p:cNvSpPr/>
                <p:nvPr/>
              </p:nvSpPr>
              <p:spPr>
                <a:xfrm>
                  <a:off x="4259160" y="2513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61"/>
                <p:cNvSpPr/>
                <p:nvPr/>
              </p:nvSpPr>
              <p:spPr>
                <a:xfrm>
                  <a:off x="4259160" y="227952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62"/>
                <p:cNvSpPr/>
                <p:nvPr/>
              </p:nvSpPr>
              <p:spPr>
                <a:xfrm>
                  <a:off x="4259160" y="132624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63"/>
                <p:cNvSpPr/>
                <p:nvPr/>
              </p:nvSpPr>
              <p:spPr>
                <a:xfrm>
                  <a:off x="4259160" y="1087560"/>
                  <a:ext cx="2375280" cy="0"/>
                </a:xfrm>
                <a:prstGeom prst="line">
                  <a:avLst/>
                </a:prstGeom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45"/>
              <p:cNvGrpSpPr/>
              <p:nvPr/>
            </p:nvGrpSpPr>
            <p:grpSpPr>
              <a:xfrm>
                <a:off x="4114800" y="3394080"/>
                <a:ext cx="2182680" cy="322200"/>
                <a:chOff x="4114800" y="3394080"/>
                <a:chExt cx="2182680" cy="322200"/>
              </a:xfrm>
            </p:grpSpPr>
            <p:sp>
              <p:nvSpPr>
                <p:cNvPr id="374" name="Text Box 236"/>
                <p:cNvSpPr/>
                <p:nvPr/>
              </p:nvSpPr>
              <p:spPr>
                <a:xfrm>
                  <a:off x="41148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37"/>
                <p:cNvSpPr/>
                <p:nvPr/>
              </p:nvSpPr>
              <p:spPr>
                <a:xfrm>
                  <a:off x="435276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238"/>
                <p:cNvSpPr/>
                <p:nvPr/>
              </p:nvSpPr>
              <p:spPr>
                <a:xfrm>
                  <a:off x="45910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Text Box 239"/>
                <p:cNvSpPr/>
                <p:nvPr/>
              </p:nvSpPr>
              <p:spPr>
                <a:xfrm>
                  <a:off x="48196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40"/>
                <p:cNvSpPr/>
                <p:nvPr/>
              </p:nvSpPr>
              <p:spPr>
                <a:xfrm>
                  <a:off x="50670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Text Box 241"/>
                <p:cNvSpPr/>
                <p:nvPr/>
              </p:nvSpPr>
              <p:spPr>
                <a:xfrm>
                  <a:off x="5295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Text Box 242"/>
                <p:cNvSpPr/>
                <p:nvPr/>
              </p:nvSpPr>
              <p:spPr>
                <a:xfrm>
                  <a:off x="554328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Text Box 243"/>
                <p:cNvSpPr/>
                <p:nvPr/>
              </p:nvSpPr>
              <p:spPr>
                <a:xfrm>
                  <a:off x="57816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244"/>
                <p:cNvSpPr/>
                <p:nvPr/>
              </p:nvSpPr>
              <p:spPr>
                <a:xfrm>
                  <a:off x="6010200" y="339408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246"/>
              <p:cNvGrpSpPr/>
              <p:nvPr/>
            </p:nvGrpSpPr>
            <p:grpSpPr>
              <a:xfrm>
                <a:off x="4114800" y="6156360"/>
                <a:ext cx="2182680" cy="322200"/>
                <a:chOff x="4114800" y="6156360"/>
                <a:chExt cx="2182680" cy="322200"/>
              </a:xfrm>
            </p:grpSpPr>
            <p:sp>
              <p:nvSpPr>
                <p:cNvPr id="384" name="Text Box 247"/>
                <p:cNvSpPr/>
                <p:nvPr/>
              </p:nvSpPr>
              <p:spPr>
                <a:xfrm>
                  <a:off x="41148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248"/>
                <p:cNvSpPr/>
                <p:nvPr/>
              </p:nvSpPr>
              <p:spPr>
                <a:xfrm>
                  <a:off x="435276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249"/>
                <p:cNvSpPr/>
                <p:nvPr/>
              </p:nvSpPr>
              <p:spPr>
                <a:xfrm>
                  <a:off x="45910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250"/>
                <p:cNvSpPr/>
                <p:nvPr/>
              </p:nvSpPr>
              <p:spPr>
                <a:xfrm>
                  <a:off x="48196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251"/>
                <p:cNvSpPr/>
                <p:nvPr/>
              </p:nvSpPr>
              <p:spPr>
                <a:xfrm>
                  <a:off x="50670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252"/>
                <p:cNvSpPr/>
                <p:nvPr/>
              </p:nvSpPr>
              <p:spPr>
                <a:xfrm>
                  <a:off x="5295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253"/>
                <p:cNvSpPr/>
                <p:nvPr/>
              </p:nvSpPr>
              <p:spPr>
                <a:xfrm>
                  <a:off x="554328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254"/>
                <p:cNvSpPr/>
                <p:nvPr/>
              </p:nvSpPr>
              <p:spPr>
                <a:xfrm>
                  <a:off x="57816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255"/>
                <p:cNvSpPr/>
                <p:nvPr/>
              </p:nvSpPr>
              <p:spPr>
                <a:xfrm>
                  <a:off x="6010200" y="6156360"/>
                  <a:ext cx="28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256"/>
              <p:cNvSpPr/>
              <p:nvPr/>
            </p:nvSpPr>
            <p:spPr>
              <a:xfrm>
                <a:off x="4392000" y="356400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257"/>
              <p:cNvSpPr/>
              <p:nvPr/>
            </p:nvSpPr>
            <p:spPr>
              <a:xfrm>
                <a:off x="4392000" y="6345360"/>
                <a:ext cx="186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Quantity Demand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59"/>
              <p:cNvSpPr/>
              <p:nvPr/>
            </p:nvSpPr>
            <p:spPr>
              <a:xfrm rot="16200000">
                <a:off x="3325320" y="2221200"/>
                <a:ext cx="67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260"/>
              <p:cNvSpPr/>
              <p:nvPr/>
            </p:nvSpPr>
            <p:spPr>
              <a:xfrm rot="16200000">
                <a:off x="2385720" y="4819680"/>
                <a:ext cx="2384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Revenu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Thousands of Dollar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261"/>
              <p:cNvSpPr/>
              <p:nvPr/>
            </p:nvSpPr>
            <p:spPr>
              <a:xfrm>
                <a:off x="3773520" y="3924360"/>
                <a:ext cx="503280" cy="23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2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262"/>
              <p:cNvSpPr/>
              <p:nvPr/>
            </p:nvSpPr>
            <p:spPr>
              <a:xfrm>
                <a:off x="3870000" y="1374840"/>
                <a:ext cx="394200" cy="20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$8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08"/>
            <p:cNvGrpSpPr/>
            <p:nvPr/>
          </p:nvGrpSpPr>
          <p:grpSpPr>
            <a:xfrm>
              <a:off x="4251240" y="1087560"/>
              <a:ext cx="2397240" cy="5124240"/>
              <a:chOff x="4251240" y="1087560"/>
              <a:chExt cx="2397240" cy="5124240"/>
            </a:xfrm>
          </p:grpSpPr>
          <p:sp>
            <p:nvSpPr>
              <p:cNvPr id="400" name="Rectangle 306"/>
              <p:cNvSpPr/>
              <p:nvPr/>
            </p:nvSpPr>
            <p:spPr>
              <a:xfrm>
                <a:off x="4265640" y="108756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307"/>
              <p:cNvSpPr/>
              <p:nvPr/>
            </p:nvSpPr>
            <p:spPr>
              <a:xfrm>
                <a:off x="4251240" y="3840120"/>
                <a:ext cx="2382840" cy="2371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298"/>
          <p:cNvGrpSpPr/>
          <p:nvPr/>
        </p:nvGrpSpPr>
        <p:grpSpPr>
          <a:xfrm>
            <a:off x="4411800" y="4008600"/>
            <a:ext cx="1850760" cy="1603080"/>
            <a:chOff x="4411800" y="4008600"/>
            <a:chExt cx="1850760" cy="1603080"/>
          </a:xfrm>
        </p:grpSpPr>
        <p:sp>
          <p:nvSpPr>
            <p:cNvPr id="403" name="Freeform 227"/>
            <p:cNvSpPr/>
            <p:nvPr/>
          </p:nvSpPr>
          <p:spPr>
            <a:xfrm>
              <a:off x="4411800" y="4016520"/>
              <a:ext cx="1850760" cy="159516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1052" h="807">
                  <a:moveTo>
                    <a:pt x="0" y="807"/>
                  </a:moveTo>
                  <a:cubicBezTo>
                    <a:pt x="25" y="731"/>
                    <a:pt x="82" y="479"/>
                    <a:pt x="149" y="353"/>
                  </a:cubicBezTo>
                  <a:cubicBezTo>
                    <a:pt x="216" y="227"/>
                    <a:pt x="321" y="100"/>
                    <a:pt x="401" y="50"/>
                  </a:cubicBezTo>
                  <a:cubicBezTo>
                    <a:pt x="481" y="0"/>
                    <a:pt x="544" y="0"/>
                    <a:pt x="626" y="50"/>
                  </a:cubicBezTo>
                  <a:cubicBezTo>
                    <a:pt x="708" y="100"/>
                    <a:pt x="825" y="226"/>
                    <a:pt x="896" y="350"/>
                  </a:cubicBezTo>
                  <a:cubicBezTo>
                    <a:pt x="967" y="474"/>
                    <a:pt x="1019" y="702"/>
                    <a:pt x="1052" y="795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21"/>
            <p:cNvSpPr/>
            <p:nvPr/>
          </p:nvSpPr>
          <p:spPr>
            <a:xfrm>
              <a:off x="5137200" y="4008600"/>
              <a:ext cx="13320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22"/>
            <p:cNvSpPr/>
            <p:nvPr/>
          </p:nvSpPr>
          <p:spPr>
            <a:xfrm>
              <a:off x="5378400" y="400860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3"/>
            <p:cNvSpPr/>
            <p:nvPr/>
          </p:nvSpPr>
          <p:spPr>
            <a:xfrm>
              <a:off x="468936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24"/>
            <p:cNvSpPr/>
            <p:nvPr/>
          </p:nvSpPr>
          <p:spPr>
            <a:xfrm>
              <a:off x="443376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25"/>
            <p:cNvSpPr/>
            <p:nvPr/>
          </p:nvSpPr>
          <p:spPr>
            <a:xfrm>
              <a:off x="5851440" y="4495680"/>
              <a:ext cx="133560" cy="133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26"/>
            <p:cNvSpPr/>
            <p:nvPr/>
          </p:nvSpPr>
          <p:spPr>
            <a:xfrm>
              <a:off x="6111720" y="5199120"/>
              <a:ext cx="133560" cy="133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97"/>
          <p:cNvGrpSpPr/>
          <p:nvPr/>
        </p:nvGrpSpPr>
        <p:grpSpPr>
          <a:xfrm>
            <a:off x="4257360" y="1338120"/>
            <a:ext cx="2121120" cy="2133000"/>
            <a:chOff x="4257360" y="1338120"/>
            <a:chExt cx="2121120" cy="2133000"/>
          </a:xfrm>
        </p:grpSpPr>
        <p:sp>
          <p:nvSpPr>
            <p:cNvPr id="411" name="Line 235"/>
            <p:cNvSpPr/>
            <p:nvPr/>
          </p:nvSpPr>
          <p:spPr>
            <a:xfrm>
              <a:off x="4275000" y="1338120"/>
              <a:ext cx="2103480" cy="21034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65"/>
            <p:cNvSpPr/>
            <p:nvPr/>
          </p:nvSpPr>
          <p:spPr>
            <a:xfrm>
              <a:off x="6108840" y="315108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66"/>
            <p:cNvSpPr/>
            <p:nvPr/>
          </p:nvSpPr>
          <p:spPr>
            <a:xfrm>
              <a:off x="5872320" y="292572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67"/>
            <p:cNvSpPr/>
            <p:nvPr/>
          </p:nvSpPr>
          <p:spPr>
            <a:xfrm>
              <a:off x="5635800" y="2689200"/>
              <a:ext cx="11088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68"/>
            <p:cNvSpPr/>
            <p:nvPr/>
          </p:nvSpPr>
          <p:spPr>
            <a:xfrm>
              <a:off x="5398920" y="245268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9"/>
            <p:cNvSpPr/>
            <p:nvPr/>
          </p:nvSpPr>
          <p:spPr>
            <a:xfrm>
              <a:off x="5162400" y="221616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0"/>
            <p:cNvSpPr/>
            <p:nvPr/>
          </p:nvSpPr>
          <p:spPr>
            <a:xfrm>
              <a:off x="4925880" y="197964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71"/>
            <p:cNvSpPr/>
            <p:nvPr/>
          </p:nvSpPr>
          <p:spPr>
            <a:xfrm>
              <a:off x="4689360" y="174312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72"/>
            <p:cNvSpPr/>
            <p:nvPr/>
          </p:nvSpPr>
          <p:spPr>
            <a:xfrm>
              <a:off x="4452840" y="1506600"/>
              <a:ext cx="111240" cy="11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9"/>
            <p:cNvSpPr/>
            <p:nvPr/>
          </p:nvSpPr>
          <p:spPr>
            <a:xfrm>
              <a:off x="4257360" y="1474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0"/>
            <p:cNvSpPr/>
            <p:nvPr/>
          </p:nvSpPr>
          <p:spPr>
            <a:xfrm>
              <a:off x="4510080" y="1749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91"/>
            <p:cNvSpPr/>
            <p:nvPr/>
          </p:nvSpPr>
          <p:spPr>
            <a:xfrm>
              <a:off x="4728600" y="1979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92"/>
            <p:cNvSpPr/>
            <p:nvPr/>
          </p:nvSpPr>
          <p:spPr>
            <a:xfrm>
              <a:off x="4981320" y="223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3"/>
            <p:cNvSpPr/>
            <p:nvPr/>
          </p:nvSpPr>
          <p:spPr>
            <a:xfrm>
              <a:off x="5222880" y="2451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94"/>
            <p:cNvSpPr/>
            <p:nvPr/>
          </p:nvSpPr>
          <p:spPr>
            <a:xfrm>
              <a:off x="5463720" y="27147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95"/>
            <p:cNvSpPr/>
            <p:nvPr/>
          </p:nvSpPr>
          <p:spPr>
            <a:xfrm>
              <a:off x="5671800" y="291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6"/>
            <p:cNvSpPr/>
            <p:nvPr/>
          </p:nvSpPr>
          <p:spPr>
            <a:xfrm>
              <a:off x="5924520" y="316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10"/>
          <p:cNvSpPr/>
          <p:nvPr/>
        </p:nvSpPr>
        <p:spPr>
          <a:xfrm>
            <a:off x="7196400" y="1176480"/>
            <a:ext cx="1000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1"/>
          <p:cNvSpPr/>
          <p:nvPr/>
        </p:nvSpPr>
        <p:spPr>
          <a:xfrm>
            <a:off x="6918120" y="1784520"/>
            <a:ext cx="156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12"/>
          <p:cNvSpPr/>
          <p:nvPr/>
        </p:nvSpPr>
        <p:spPr>
          <a:xfrm>
            <a:off x="7099200" y="2357280"/>
            <a:ext cx="119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13"/>
          <p:cNvSpPr/>
          <p:nvPr/>
        </p:nvSpPr>
        <p:spPr>
          <a:xfrm rot="18778200">
            <a:off x="4707000" y="952200"/>
            <a:ext cx="361800" cy="1368360"/>
          </a:xfrm>
          <a:custGeom>
            <a:avLst/>
            <a:gdLst>
              <a:gd name="textAreaLeft" fmla="*/ 0 w 361800"/>
              <a:gd name="textAreaRight" fmla="*/ 130680 w 3618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14"/>
          <p:cNvSpPr/>
          <p:nvPr/>
        </p:nvSpPr>
        <p:spPr>
          <a:xfrm rot="18969000">
            <a:off x="5897520" y="2123640"/>
            <a:ext cx="362160" cy="1368360"/>
          </a:xfrm>
          <a:custGeom>
            <a:avLst/>
            <a:gdLst>
              <a:gd name="textAreaLeft" fmla="*/ 0 w 362160"/>
              <a:gd name="textAreaRight" fmla="*/ 130680 w 3621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15"/>
          <p:cNvSpPr/>
          <p:nvPr/>
        </p:nvSpPr>
        <p:spPr>
          <a:xfrm rot="18969000">
            <a:off x="5316120" y="2088720"/>
            <a:ext cx="362160" cy="244440"/>
          </a:xfrm>
          <a:custGeom>
            <a:avLst/>
            <a:gdLst>
              <a:gd name="textAreaLeft" fmla="*/ 0 w 362160"/>
              <a:gd name="textAreaRight" fmla="*/ 130680 w 362160"/>
              <a:gd name="textAreaTop" fmla="*/ 6120 h 244440"/>
              <a:gd name="textAreaBottom" fmla="*/ 23832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16"/>
          <p:cNvSpPr/>
          <p:nvPr/>
        </p:nvSpPr>
        <p:spPr>
          <a:xfrm>
            <a:off x="5079960" y="148608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4"/>
          <p:cNvSpPr/>
          <p:nvPr/>
        </p:nvSpPr>
        <p:spPr>
          <a:xfrm>
            <a:off x="6210360" y="309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0"/>
          <p:cNvSpPr/>
          <p:nvPr/>
        </p:nvSpPr>
        <p:spPr>
          <a:xfrm>
            <a:off x="5676840" y="208296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21"/>
          <p:cNvSpPr/>
          <p:nvPr/>
        </p:nvSpPr>
        <p:spPr>
          <a:xfrm>
            <a:off x="6242040" y="2685960"/>
            <a:ext cx="75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3"/>
          <p:cNvSpPr/>
          <p:nvPr/>
        </p:nvSpPr>
        <p:spPr>
          <a:xfrm>
            <a:off x="6207480" y="54752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645314D-5A8B-4A9A-8B19-F1BF17CE5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79" dur="indefinite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indefinite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98" dur="indefinite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indefinite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90360" y="1207800"/>
            <a:ext cx="800100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substitutes, more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r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elative to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xuries versus necess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xuries are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elastic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F1597DB-8088-4E1C-BFE4-F485D3A1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3" dur="1" fill="hold"/>
                                  <p:tgtEl>
                                    <p:spTgt spid="44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Elast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90360" y="1474920"/>
            <a:ext cx="7746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crop y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ise ta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iminalization of illegal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 or inelastic dem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F9A5B67-3DD4-4B38-B087-AD66538F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8" dur="1" fill="hold"/>
                                  <p:tgtEl>
                                    <p:spTgt spid="4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2753640" y="413712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3034080" y="51228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2754360" y="505152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532160" y="4707000"/>
            <a:ext cx="958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2"/>
          <p:cNvSpPr/>
          <p:nvPr/>
        </p:nvSpPr>
        <p:spPr>
          <a:xfrm>
            <a:off x="1181160" y="157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to price changes by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78C8EC0-749B-4A8C-B9E5-31F86888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 plant 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more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389C50A-A698-405A-8972-E06BDDE2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9" dur="1" fill="hold"/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54"/>
          <p:cNvGrpSpPr/>
          <p:nvPr/>
        </p:nvGrpSpPr>
        <p:grpSpPr>
          <a:xfrm>
            <a:off x="3547800" y="3956040"/>
            <a:ext cx="3636000" cy="2623320"/>
            <a:chOff x="3547800" y="3956040"/>
            <a:chExt cx="3636000" cy="2623320"/>
          </a:xfrm>
        </p:grpSpPr>
        <p:sp>
          <p:nvSpPr>
            <p:cNvPr id="457" name="Rectangle 38"/>
            <p:cNvSpPr/>
            <p:nvPr/>
          </p:nvSpPr>
          <p:spPr>
            <a:xfrm>
              <a:off x="3822840" y="4060800"/>
              <a:ext cx="307944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5"/>
            <p:cNvSpPr/>
            <p:nvPr/>
          </p:nvSpPr>
          <p:spPr>
            <a:xfrm>
              <a:off x="3547800" y="3956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46"/>
            <p:cNvSpPr/>
            <p:nvPr/>
          </p:nvSpPr>
          <p:spPr>
            <a:xfrm>
              <a:off x="6846120" y="6242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192680" y="1471680"/>
            <a:ext cx="60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et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9"/>
          <p:cNvSpPr/>
          <p:nvPr/>
        </p:nvSpPr>
        <p:spPr>
          <a:xfrm>
            <a:off x="4314960" y="4376880"/>
            <a:ext cx="170784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0"/>
          <p:cNvSpPr/>
          <p:nvPr/>
        </p:nvSpPr>
        <p:spPr>
          <a:xfrm>
            <a:off x="4645080" y="43178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2"/>
          <p:cNvSpPr/>
          <p:nvPr/>
        </p:nvSpPr>
        <p:spPr>
          <a:xfrm>
            <a:off x="598176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3"/>
          <p:cNvSpPr/>
          <p:nvPr/>
        </p:nvSpPr>
        <p:spPr>
          <a:xfrm>
            <a:off x="6300720" y="594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4"/>
          <p:cNvSpPr/>
          <p:nvPr/>
        </p:nvSpPr>
        <p:spPr>
          <a:xfrm>
            <a:off x="5302800" y="4095720"/>
            <a:ext cx="39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5115600" y="62499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3430800" y="4741920"/>
            <a:ext cx="42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3449160" y="51944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832200" y="4986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H="1">
            <a:off x="3817800" y="537228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1"/>
          <p:cNvSpPr/>
          <p:nvPr/>
        </p:nvSpPr>
        <p:spPr>
          <a:xfrm>
            <a:off x="5315040" y="4255920"/>
            <a:ext cx="0" cy="20466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52"/>
          <p:cNvSpPr/>
          <p:nvPr/>
        </p:nvSpPr>
        <p:spPr>
          <a:xfrm>
            <a:off x="5248440" y="491652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3"/>
          <p:cNvSpPr/>
          <p:nvPr/>
        </p:nvSpPr>
        <p:spPr>
          <a:xfrm>
            <a:off x="5245200" y="530208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55"/>
          <p:cNvSpPr/>
          <p:nvPr/>
        </p:nvSpPr>
        <p:spPr>
          <a:xfrm>
            <a:off x="4641840" y="449748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6"/>
          <p:cNvSpPr/>
          <p:nvPr/>
        </p:nvSpPr>
        <p:spPr>
          <a:xfrm>
            <a:off x="2944800" y="4987800"/>
            <a:ext cx="196920" cy="390600"/>
          </a:xfrm>
          <a:custGeom>
            <a:avLst/>
            <a:gdLst>
              <a:gd name="textAreaLeft" fmla="*/ 126000 w 196920"/>
              <a:gd name="textAreaRight" fmla="*/ 197280 w 196920"/>
              <a:gd name="textAreaTop" fmla="*/ 10080 h 390600"/>
              <a:gd name="textAreaBottom" fmla="*/ 380520 h 3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7"/>
          <p:cNvSpPr/>
          <p:nvPr/>
        </p:nvSpPr>
        <p:spPr>
          <a:xfrm>
            <a:off x="1870200" y="4781520"/>
            <a:ext cx="1105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a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6C94F6F-D1FB-4BAB-9483-DBFF9C52A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"/>
                            </p:stCondLst>
                            <p:childTnLst>
                              <p:par>
                                <p:cTn id="8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360" y="1336320"/>
            <a:ext cx="78613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tal revenue te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 elasticity of dem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r &amp;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l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0DBAC6D-5262-448C-BF1A-C21154C7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1334880" y="1517760"/>
            <a:ext cx="39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9"/>
          <p:cNvGrpSpPr/>
          <p:nvPr/>
        </p:nvGrpSpPr>
        <p:grpSpPr>
          <a:xfrm>
            <a:off x="3700080" y="3930480"/>
            <a:ext cx="3636000" cy="2623320"/>
            <a:chOff x="3700080" y="3930480"/>
            <a:chExt cx="3636000" cy="2623320"/>
          </a:xfrm>
        </p:grpSpPr>
        <p:sp>
          <p:nvSpPr>
            <p:cNvPr id="482" name="Rectangle 20"/>
            <p:cNvSpPr/>
            <p:nvPr/>
          </p:nvSpPr>
          <p:spPr>
            <a:xfrm>
              <a:off x="3975120" y="403524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1"/>
            <p:cNvSpPr/>
            <p:nvPr/>
          </p:nvSpPr>
          <p:spPr>
            <a:xfrm>
              <a:off x="3700080" y="3930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2"/>
            <p:cNvSpPr/>
            <p:nvPr/>
          </p:nvSpPr>
          <p:spPr>
            <a:xfrm>
              <a:off x="6998400" y="621648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Line 23"/>
          <p:cNvSpPr/>
          <p:nvPr/>
        </p:nvSpPr>
        <p:spPr>
          <a:xfrm>
            <a:off x="4467240" y="435132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4"/>
          <p:cNvSpPr/>
          <p:nvPr/>
        </p:nvSpPr>
        <p:spPr>
          <a:xfrm>
            <a:off x="4797360" y="4292640"/>
            <a:ext cx="170820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13404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6453000" y="59180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5997240" y="40924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52459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9"/>
          <p:cNvSpPr/>
          <p:nvPr/>
        </p:nvSpPr>
        <p:spPr>
          <a:xfrm>
            <a:off x="3579120" y="49053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01440" y="51688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1"/>
          <p:cNvSpPr/>
          <p:nvPr/>
        </p:nvSpPr>
        <p:spPr>
          <a:xfrm flipH="1">
            <a:off x="3984480" y="5083200"/>
            <a:ext cx="160992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2"/>
          <p:cNvSpPr/>
          <p:nvPr/>
        </p:nvSpPr>
        <p:spPr>
          <a:xfrm flipH="1">
            <a:off x="3970440" y="534672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3"/>
          <p:cNvSpPr/>
          <p:nvPr/>
        </p:nvSpPr>
        <p:spPr>
          <a:xfrm flipH="1">
            <a:off x="5022720" y="4307040"/>
            <a:ext cx="1022400" cy="180648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36"/>
          <p:cNvSpPr/>
          <p:nvPr/>
        </p:nvSpPr>
        <p:spPr>
          <a:xfrm>
            <a:off x="4919760" y="4597560"/>
            <a:ext cx="217440" cy="23940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7"/>
          <p:cNvSpPr/>
          <p:nvPr/>
        </p:nvSpPr>
        <p:spPr>
          <a:xfrm>
            <a:off x="5464080" y="535608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8"/>
          <p:cNvSpPr/>
          <p:nvPr/>
        </p:nvSpPr>
        <p:spPr>
          <a:xfrm>
            <a:off x="5594400" y="5092560"/>
            <a:ext cx="0" cy="11858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5533920" y="502452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35"/>
          <p:cNvSpPr/>
          <p:nvPr/>
        </p:nvSpPr>
        <p:spPr>
          <a:xfrm>
            <a:off x="5397480" y="527688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9"/>
          <p:cNvSpPr/>
          <p:nvPr/>
        </p:nvSpPr>
        <p:spPr>
          <a:xfrm>
            <a:off x="5487120" y="62247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2"/>
          <p:cNvSpPr/>
          <p:nvPr/>
        </p:nvSpPr>
        <p:spPr>
          <a:xfrm>
            <a:off x="3156120" y="5073480"/>
            <a:ext cx="196560" cy="301680"/>
          </a:xfrm>
          <a:custGeom>
            <a:avLst/>
            <a:gdLst>
              <a:gd name="textAreaLeft" fmla="*/ 125640 w 196560"/>
              <a:gd name="textAreaRight" fmla="*/ 196920 w 196560"/>
              <a:gd name="textAreaTop" fmla="*/ 7560 h 301680"/>
              <a:gd name="textAreaBottom" fmla="*/ 294120 h 30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C9A61B14-24CC-4C84-96A4-EEBE1426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4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1202400" y="1465200"/>
            <a:ext cx="360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3852360" y="3894120"/>
            <a:ext cx="3636000" cy="2623320"/>
            <a:chOff x="3852360" y="3894120"/>
            <a:chExt cx="3636000" cy="2623320"/>
          </a:xfrm>
        </p:grpSpPr>
        <p:sp>
          <p:nvSpPr>
            <p:cNvPr id="508" name="Rectangle 20"/>
            <p:cNvSpPr/>
            <p:nvPr/>
          </p:nvSpPr>
          <p:spPr>
            <a:xfrm>
              <a:off x="4127400" y="3998880"/>
              <a:ext cx="3079080" cy="2243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1"/>
            <p:cNvSpPr/>
            <p:nvPr/>
          </p:nvSpPr>
          <p:spPr>
            <a:xfrm>
              <a:off x="3852360" y="38941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2"/>
            <p:cNvSpPr/>
            <p:nvPr/>
          </p:nvSpPr>
          <p:spPr>
            <a:xfrm>
              <a:off x="7150680" y="618012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Line 23"/>
          <p:cNvSpPr/>
          <p:nvPr/>
        </p:nvSpPr>
        <p:spPr>
          <a:xfrm>
            <a:off x="4619520" y="4314960"/>
            <a:ext cx="1708200" cy="17078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4"/>
          <p:cNvSpPr/>
          <p:nvPr/>
        </p:nvSpPr>
        <p:spPr>
          <a:xfrm>
            <a:off x="4950000" y="4255920"/>
            <a:ext cx="1707840" cy="170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28632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6"/>
          <p:cNvSpPr/>
          <p:nvPr/>
        </p:nvSpPr>
        <p:spPr>
          <a:xfrm>
            <a:off x="6605640" y="5881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7"/>
          <p:cNvSpPr/>
          <p:nvPr/>
        </p:nvSpPr>
        <p:spPr>
          <a:xfrm>
            <a:off x="6548400" y="4444920"/>
            <a:ext cx="328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5420520" y="6188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9"/>
          <p:cNvSpPr/>
          <p:nvPr/>
        </p:nvSpPr>
        <p:spPr>
          <a:xfrm>
            <a:off x="3728520" y="4913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3753720" y="513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1"/>
          <p:cNvSpPr/>
          <p:nvPr/>
        </p:nvSpPr>
        <p:spPr>
          <a:xfrm flipH="1">
            <a:off x="4137120" y="5146560"/>
            <a:ext cx="167616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2"/>
          <p:cNvSpPr/>
          <p:nvPr/>
        </p:nvSpPr>
        <p:spPr>
          <a:xfrm flipH="1">
            <a:off x="4122720" y="5310360"/>
            <a:ext cx="1479600" cy="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 flipH="1">
            <a:off x="4893840" y="4629240"/>
            <a:ext cx="1684440" cy="117612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6"/>
          <p:cNvSpPr/>
          <p:nvPr/>
        </p:nvSpPr>
        <p:spPr>
          <a:xfrm>
            <a:off x="4919760" y="4408560"/>
            <a:ext cx="217440" cy="239760"/>
          </a:xfrm>
          <a:prstGeom prst="rightArrow">
            <a:avLst>
              <a:gd name="adj1" fmla="val 50991"/>
              <a:gd name="adj2" fmla="val 248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5608800" y="5334120"/>
            <a:ext cx="0" cy="9144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8"/>
          <p:cNvSpPr/>
          <p:nvPr/>
        </p:nvSpPr>
        <p:spPr>
          <a:xfrm>
            <a:off x="5838840" y="5129280"/>
            <a:ext cx="0" cy="11192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9"/>
          <p:cNvSpPr/>
          <p:nvPr/>
        </p:nvSpPr>
        <p:spPr>
          <a:xfrm>
            <a:off x="5706360" y="61880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5775480" y="507672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5549760" y="524016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1"/>
          <p:cNvSpPr/>
          <p:nvPr/>
        </p:nvSpPr>
        <p:spPr>
          <a:xfrm>
            <a:off x="1963080" y="4781520"/>
            <a:ext cx="9169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3397320" y="5149800"/>
            <a:ext cx="196920" cy="225360"/>
          </a:xfrm>
          <a:custGeom>
            <a:avLst/>
            <a:gdLst>
              <a:gd name="textAreaLeft" fmla="*/ 126000 w 196920"/>
              <a:gd name="textAreaRight" fmla="*/ 197280 w 196920"/>
              <a:gd name="textAreaTop" fmla="*/ 5760 h 225360"/>
              <a:gd name="textAreaBottom" fmla="*/ 219600 h 2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75"/>
                </a:lnTo>
                <a:cubicBezTo>
                  <a:pt x="10800" y="9475"/>
                  <a:pt x="5400" y="10375"/>
                  <a:pt x="0" y="10375"/>
                </a:cubicBezTo>
                <a:cubicBezTo>
                  <a:pt x="5400" y="10375"/>
                  <a:pt x="10800" y="11275"/>
                  <a:pt x="10800" y="121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C5A5ED2-988C-422B-9D71-FBF84644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79280" y="1304640"/>
            <a:ext cx="70866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ques and re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d, 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ing high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atile gold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lastic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082E4B0B-A795-4117-B48F-6AAB3CC3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5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3920" y="-360"/>
            <a:ext cx="829008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90360" y="1557000"/>
            <a:ext cx="79628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price of another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28480" y="40971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525480" y="50706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3228840" y="497376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1680840" y="4603680"/>
            <a:ext cx="109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9449664D-85F3-4581-A7F5-10EFB2C51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9" dur="1" fill="hold"/>
                                  <p:tgtEl>
                                    <p:spTgt spid="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31528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181160" y="1494000"/>
            <a:ext cx="68803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stitu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s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ary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pendent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er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FFADCD2A-DE78-426F-846E-CB2BEACF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4" dur="1" fill="hold"/>
                                  <p:tgtEl>
                                    <p:spTgt spid="5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58960" y="2827080"/>
            <a:ext cx="8030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veness of sales to change in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goods – positive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 goods– negative 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3152880" y="1398600"/>
            <a:ext cx="4533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143160" y="2203560"/>
            <a:ext cx="4540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6"/>
          <p:cNvSpPr/>
          <p:nvPr/>
        </p:nvSpPr>
        <p:spPr>
          <a:xfrm>
            <a:off x="3051000" y="2166840"/>
            <a:ext cx="46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743480" y="1811160"/>
            <a:ext cx="88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7E0ACB0-F04E-4455-91EC-DAE9625D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5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ximum willingness to pay (WTP) less than actual price p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W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21BB24C-FE2C-463F-A412-CE1733DE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28684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2954160" y="4068720"/>
            <a:ext cx="1600200" cy="183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1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2471AD17-8E85-43B0-A0C2-49EA1932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7720" y="123156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efit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price received more than minimum acceptable price (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939960" y="32004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 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 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5"/>
          <p:cNvSpPr/>
          <p:nvPr/>
        </p:nvSpPr>
        <p:spPr>
          <a:xfrm>
            <a:off x="927000" y="3670200"/>
            <a:ext cx="80139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F458DE1-FC0D-4763-8909-D3D82B060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2948040" y="4079880"/>
            <a:ext cx="1606320" cy="1828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0"/>
          <p:cNvSpPr/>
          <p:nvPr/>
        </p:nvSpPr>
        <p:spPr>
          <a:xfrm flipV="1">
            <a:off x="2959200" y="2602080"/>
            <a:ext cx="3060720" cy="3063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3060360" y="315900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3556080" y="3838680"/>
            <a:ext cx="15840" cy="66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5DA88449-058F-4FB1-A4C9-84A4F151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5920" y="1376280"/>
            <a:ext cx="81280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sponsiveness to price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change in quantity purchased for given pric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5D1E050-9015-4564-9B74-F0312BDF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066320" y="1388880"/>
            <a:ext cx="853452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and allocative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2949480" y="2532240"/>
            <a:ext cx="1567080" cy="1566720"/>
          </a:xfrm>
          <a:prstGeom prst="rtTriangl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 flipV="1">
            <a:off x="2949480" y="40838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826440" y="2522520"/>
            <a:ext cx="143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930120" y="5030640"/>
            <a:ext cx="12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 flipH="1">
            <a:off x="3298320" y="2841480"/>
            <a:ext cx="576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407200" y="340200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= 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4"/>
          <p:cNvSpPr/>
          <p:nvPr/>
        </p:nvSpPr>
        <p:spPr>
          <a:xfrm flipH="1">
            <a:off x="4637160" y="3733920"/>
            <a:ext cx="8287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0"/>
          <p:cNvSpPr/>
          <p:nvPr/>
        </p:nvSpPr>
        <p:spPr>
          <a:xfrm flipH="1" flipV="1">
            <a:off x="3319560" y="4506480"/>
            <a:ext cx="588960" cy="70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 rot="5400000">
            <a:off x="2945880" y="4116240"/>
            <a:ext cx="1567080" cy="1567080"/>
          </a:xfrm>
          <a:prstGeom prst="rtTriangl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6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34E9B887-81EE-4EF1-9D0A-0062E1FF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0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2944800" y="2371680"/>
            <a:ext cx="4832280" cy="35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066320" y="1427040"/>
            <a:ext cx="7086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adweight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5"/>
          <p:cNvSpPr/>
          <p:nvPr/>
        </p:nvSpPr>
        <p:spPr>
          <a:xfrm rot="2700000">
            <a:off x="4849560" y="3354480"/>
            <a:ext cx="1455480" cy="14554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6"/>
          <p:cNvSpPr/>
          <p:nvPr/>
        </p:nvSpPr>
        <p:spPr>
          <a:xfrm flipH="1" rot="18900000">
            <a:off x="2779200" y="3354120"/>
            <a:ext cx="1455480" cy="1455840"/>
          </a:xfrm>
          <a:prstGeom prst="rtTriangl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6347160" y="554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6010560" y="234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2949480" y="2492280"/>
            <a:ext cx="3397320" cy="3397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 rot="16200000">
            <a:off x="1374840" y="39258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 (Per B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2609280" y="3908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2949480" y="4071960"/>
            <a:ext cx="1589040" cy="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4352040" y="5883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4549680" y="4071960"/>
            <a:ext cx="0" cy="18288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3958200" y="61182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 (Ba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2949480" y="2602080"/>
            <a:ext cx="3070440" cy="3070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2"/>
          <p:cNvSpPr/>
          <p:nvPr/>
        </p:nvSpPr>
        <p:spPr>
          <a:xfrm>
            <a:off x="4483080" y="4006800"/>
            <a:ext cx="13320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3835440" y="2521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7"/>
          <p:cNvSpPr/>
          <p:nvPr/>
        </p:nvSpPr>
        <p:spPr>
          <a:xfrm flipH="1">
            <a:off x="4538160" y="3179880"/>
            <a:ext cx="9720" cy="82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007880" y="2773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9"/>
          <p:cNvSpPr/>
          <p:nvPr/>
        </p:nvSpPr>
        <p:spPr>
          <a:xfrm flipH="1">
            <a:off x="3874680" y="3157560"/>
            <a:ext cx="32724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4861080" y="3157560"/>
            <a:ext cx="326880" cy="56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1"/>
          <p:cNvSpPr/>
          <p:nvPr/>
        </p:nvSpPr>
        <p:spPr>
          <a:xfrm>
            <a:off x="5506920" y="297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4"/>
          <p:cNvSpPr/>
          <p:nvPr/>
        </p:nvSpPr>
        <p:spPr>
          <a:xfrm>
            <a:off x="3436920" y="2982960"/>
            <a:ext cx="13320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3505320" y="509436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5568840" y="5091120"/>
            <a:ext cx="0" cy="8064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2"/>
          <p:cNvSpPr/>
          <p:nvPr/>
        </p:nvSpPr>
        <p:spPr>
          <a:xfrm>
            <a:off x="5506920" y="5040360"/>
            <a:ext cx="133560" cy="13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3"/>
          <p:cNvSpPr/>
          <p:nvPr/>
        </p:nvSpPr>
        <p:spPr>
          <a:xfrm>
            <a:off x="3438360" y="5030640"/>
            <a:ext cx="133560" cy="133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293280" y="58802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5356800" y="58770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DFB9D98-89DA-4A1B-A578-FAFF1BC0C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5200" y="0"/>
            <a:ext cx="83088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and Pricing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360" y="1420560"/>
            <a:ext cx="78613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pricing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with mark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 different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ces in group elasti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iness vs. leisure 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unting for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ge tu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3DA0613-D69F-4395-963F-FA718ED32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10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10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10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2" dur="1" fill="hold"/>
                                  <p:tgtEl>
                                    <p:spTgt spid="65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evenue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-revenu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9068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elasticity of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elasticity of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losses (deadweight lo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7D652669-3395-4BE2-8247-E8E69AB0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0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973160" y="2481120"/>
            <a:ext cx="5968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umer Behavi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CA6FB8F-2526-4786-855E-DD19FD9DE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0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44160" y="1452240"/>
            <a:ext cx="70866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-elasticity coefficient and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74400" y="3398760"/>
            <a:ext cx="453312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16680" y="4410000"/>
            <a:ext cx="40410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Chang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rodu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024360" y="4313160"/>
            <a:ext cx="467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692720" y="394344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8781738B-91F3-423E-BC4B-E1B1FAC8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52560" y="1338120"/>
            <a:ext cx="7937280" cy="19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e percentage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ate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2920" y="3400560"/>
            <a:ext cx="505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67400" y="5473800"/>
            <a:ext cx="2704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4363920" y="5452920"/>
            <a:ext cx="341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973880" y="3706920"/>
            <a:ext cx="97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3252960" y="4041720"/>
            <a:ext cx="518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58240" y="4813200"/>
            <a:ext cx="304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Price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382920" y="4149720"/>
            <a:ext cx="4721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Quantity Demande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390840" y="507204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A0F2FEB1-C08B-45C9-976B-64882A3F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55240" y="1325160"/>
            <a:ext cx="70866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ing point ma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point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1541520" y="4064040"/>
            <a:ext cx="7015320" cy="920520"/>
            <a:chOff x="1541520" y="4064040"/>
            <a:chExt cx="7015320" cy="920520"/>
          </a:xfrm>
        </p:grpSpPr>
        <p:sp>
          <p:nvSpPr>
            <p:cNvPr id="153" name="Text Box 19"/>
            <p:cNvSpPr/>
            <p:nvPr/>
          </p:nvSpPr>
          <p:spPr>
            <a:xfrm>
              <a:off x="2649240" y="4064040"/>
              <a:ext cx="2975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Quant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1541520" y="4164120"/>
              <a:ext cx="987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Arial"/>
                </a:rPr>
                <a:t>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709720" y="4491000"/>
              <a:ext cx="291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2"/>
            <p:cNvSpPr/>
            <p:nvPr/>
          </p:nvSpPr>
          <p:spPr>
            <a:xfrm>
              <a:off x="2610000" y="4572000"/>
              <a:ext cx="30459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Quantiti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6121440" y="4487760"/>
              <a:ext cx="23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5632200" y="41720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5"/>
            <p:cNvSpPr/>
            <p:nvPr/>
          </p:nvSpPr>
          <p:spPr>
            <a:xfrm>
              <a:off x="6073200" y="4071960"/>
              <a:ext cx="2483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nge in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079320" y="4579920"/>
              <a:ext cx="2468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m of Prices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3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DB6A2F1-1343-4C8C-8335-83024F9F9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s of E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63240" y="1533600"/>
            <a:ext cx="32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1236600" y="32180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306080" y="50068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6"/>
          <p:cNvGrpSpPr/>
          <p:nvPr/>
        </p:nvGrpSpPr>
        <p:grpSpPr>
          <a:xfrm>
            <a:off x="2979000" y="2146320"/>
            <a:ext cx="3468960" cy="1006200"/>
            <a:chOff x="2979000" y="2146320"/>
            <a:chExt cx="3468960" cy="1006200"/>
          </a:xfrm>
        </p:grpSpPr>
        <p:sp>
          <p:nvSpPr>
            <p:cNvPr id="167" name="Text Box 27"/>
            <p:cNvSpPr/>
            <p:nvPr/>
          </p:nvSpPr>
          <p:spPr>
            <a:xfrm>
              <a:off x="2979000" y="2300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529160" y="21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4529160" y="2631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06120" y="230004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4254840" y="265068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2"/>
          <p:cNvGrpSpPr/>
          <p:nvPr/>
        </p:nvGrpSpPr>
        <p:grpSpPr>
          <a:xfrm>
            <a:off x="2978640" y="3936960"/>
            <a:ext cx="3540600" cy="1006200"/>
            <a:chOff x="2978640" y="3936960"/>
            <a:chExt cx="3540600" cy="1006200"/>
          </a:xfrm>
        </p:grpSpPr>
        <p:sp>
          <p:nvSpPr>
            <p:cNvPr id="173" name="Text Box 33"/>
            <p:cNvSpPr/>
            <p:nvPr/>
          </p:nvSpPr>
          <p:spPr>
            <a:xfrm>
              <a:off x="2978640" y="409104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4528800" y="393696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528800" y="4422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5335560" y="4091040"/>
              <a:ext cx="118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4254480" y="4441680"/>
              <a:ext cx="122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8"/>
          <p:cNvGrpSpPr/>
          <p:nvPr/>
        </p:nvGrpSpPr>
        <p:grpSpPr>
          <a:xfrm>
            <a:off x="3067560" y="5654520"/>
            <a:ext cx="3468960" cy="1006560"/>
            <a:chOff x="3067560" y="5654520"/>
            <a:chExt cx="3468960" cy="1006560"/>
          </a:xfrm>
        </p:grpSpPr>
        <p:sp>
          <p:nvSpPr>
            <p:cNvPr id="179" name="Text Box 39"/>
            <p:cNvSpPr/>
            <p:nvPr/>
          </p:nvSpPr>
          <p:spPr>
            <a:xfrm>
              <a:off x="3067560" y="5808600"/>
              <a:ext cx="1278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i="1" lang="en-US" sz="4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4617720" y="5654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4617720" y="61405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2"/>
            <p:cNvSpPr/>
            <p:nvPr/>
          </p:nvSpPr>
          <p:spPr>
            <a:xfrm>
              <a:off x="5494680" y="5808600"/>
              <a:ext cx="104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3"/>
            <p:cNvSpPr/>
            <p:nvPr/>
          </p:nvSpPr>
          <p:spPr>
            <a:xfrm>
              <a:off x="4343400" y="6159600"/>
              <a:ext cx="1225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2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6264DB57-C33B-42CF-85F8-53C11529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02960" y="1414440"/>
            <a:ext cx="77979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ercent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free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responsiveness across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on of the (-)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eme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in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19AE8B13-56C5-4F98-8299-BB877FB4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venu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= TR = Px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sam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and TR change in opposit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DB34321E-115D-4EA0-ACDF-6C0F0D6D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03Z</dcterms:created>
  <dc:creator>C. Norman Hollingsworth</dc:creator>
  <dc:description/>
  <dc:language>en-US</dc:language>
  <cp:lastModifiedBy>Administrator</cp:lastModifiedBy>
  <dcterms:modified xsi:type="dcterms:W3CDTF">2010-12-07T17:13:02Z</dcterms:modified>
  <cp:revision>263</cp:revision>
  <dc:subject>McConnell-Brue Economics</dc:subject>
  <dc:title>Chapter 18</dc:title>
</cp:coreProperties>
</file>